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13A7-E9DB-45C9-A066-8DC771231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3359-AEB2-49B6-A36E-4B20C72B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7577-473C-4DF9-A4FC-360C7083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CDF0-70A8-4C9B-AA98-DD07ED40F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0274-4E52-4B75-93D1-20C211B35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E2C5-15FA-40E8-A704-EC5CB6F5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C0A1-6D3B-4530-8C72-1B49B138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7E8D-AD10-4723-AC64-6B020792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7385-0CD2-47E1-9003-CD4C6D75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2DE5-C07C-4D27-803D-5C8CE4EE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A5B1-04BA-44AA-B7AF-F983E98C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AFE1-3942-423D-A068-571A494F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F3E5-11F0-4044-9484-3A32D48B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F52B-6EDD-45C7-B74B-A3A06E4E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5292-0080-4F24-B5FF-43FC459D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0023-B371-470C-8527-AF29202F4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B1B3-D23A-4E0F-8C5E-7A989C011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4BED-937D-494D-B43A-332A3486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B313-E6EB-48FC-A525-E6C9DB50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67C5-D26D-4306-A076-FE2D9786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7D6E-5A58-47ED-B957-6A5AEC47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ECED-DF4D-42CD-84BA-F1E610E1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5DFB-30A8-49EC-BB39-465DC09B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60F0-1EF2-459E-8D19-66BDB80B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4425-568A-4823-83FF-953B9401B46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9593-4F2B-432E-AE98-A06B3C08806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4:21Z</dcterms:modified>
  <cp:revision>25</cp:revision>
  <dc:subject/>
  <dc:title>幻灯片 1</dc:title>
</cp:coreProperties>
</file>